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9.wmf" ContentType="image/x-wmf"/>
  <Override PartName="/ppt/media/image18.jpeg" ContentType="image/jpeg"/>
  <Override PartName="/ppt/media/image17.wmf" ContentType="image/x-wmf"/>
  <Override PartName="/ppt/media/image14.jpeg" ContentType="image/jpeg"/>
  <Override PartName="/ppt/media/image16.wmf" ContentType="image/x-wmf"/>
  <Override PartName="/ppt/media/image4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10.jpeg" ContentType="image/jpeg"/>
  <Override PartName="/ppt/media/image8.jpeg" ContentType="image/jpeg"/>
  <Override PartName="/ppt/media/image20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6036-0ADD-48CE-82B6-5641CB6F8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45800"/>
            <a:ext cx="8534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26E2-BD31-478C-8F6F-0E2049C4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45800"/>
            <a:ext cx="41644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45800"/>
            <a:ext cx="41644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99B2-FB92-4A4D-988A-CD85532DC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478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143000"/>
            <a:ext cx="27478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143000"/>
            <a:ext cx="27478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45800"/>
            <a:ext cx="27478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45800"/>
            <a:ext cx="27478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45800"/>
            <a:ext cx="27478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A232-7C4B-446F-941B-B13836D52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B446-D8D2-49F7-B229-F0A36D3A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ED7A-8DEE-4FD0-9AE7-8B71D7FD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7AED-A575-4190-8A10-66014F0F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B7DF-088B-455B-AF97-34B29E71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18FB-76A8-4840-B031-1B7AFAA4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3337-AA86-426A-B766-267C654C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745800"/>
            <a:ext cx="41644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1295-A47D-4223-AB4B-8D38905B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01A1-9D4F-4892-B116-4A5509A4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7840" y="3745800"/>
            <a:ext cx="41644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6742-8BB7-4EF8-8593-4E8533F0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745800"/>
            <a:ext cx="8534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0251-63F2-4D24-A9CA-DCD94F27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3745800"/>
            <a:ext cx="8534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B11C-BC98-476B-8BEC-77A91329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745800"/>
            <a:ext cx="41644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7840" y="3745800"/>
            <a:ext cx="41644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71E9-073A-4B01-9B85-D8F6E768E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478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0680" y="1143000"/>
            <a:ext cx="27478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6080" y="1143000"/>
            <a:ext cx="27478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3745800"/>
            <a:ext cx="27478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0680" y="3745800"/>
            <a:ext cx="27478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6080" y="3745800"/>
            <a:ext cx="27478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EE72-AAE4-49C1-9F26-8789A885A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80DE-A1DA-479C-953A-F9868904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BC99-CAF0-4C75-98BB-1E4A604F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25AB-8BA8-456A-A7C3-6FDBAEB1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2CD8-A786-48AC-A0DD-04E1A447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45800"/>
            <a:ext cx="41644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BF59-EC68-46F2-A22F-5B2D9924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45800"/>
            <a:ext cx="41644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D943-990F-4A05-8157-71B5F5DB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45800"/>
            <a:ext cx="8534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D9EB-7CAE-44F2-BC72-52B30476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f6a9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920" y="1143000"/>
            <a:ext cx="85341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f6a95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f6a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610480" y="624816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D5C9-8956-4B3C-BB5A-4F14EF637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f6a9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868824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2520" y="1323720"/>
            <a:ext cx="864252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f6a95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f6a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f6a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83F1-4EDC-42F8-B36E-3D5241F1F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4920" y="6248520"/>
            <a:ext cx="29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6a95"/>
                </a:solidFill>
                <a:latin typeface="Arial"/>
              </a:rPr>
              <a:t>Partnership for Clean Indoor Air</a:t>
            </a: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33987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f6a9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asurements of improved stoves distributed by AHDES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34760" y="3886200"/>
            <a:ext cx="764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f6a95"/>
                </a:solidFill>
                <a:latin typeface="Arial"/>
              </a:rPr>
              <a:t>Presentation by Tami Bond 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f6a95"/>
                </a:solidFill>
                <a:latin typeface="Arial"/>
              </a:rPr>
              <a:t>15 July 2006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concentrations are too high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The United States Environmental Protection Agency (EPA) has set standards for </a:t>
            </a:r>
            <a:r>
              <a:rPr b="0" lang="en-US" sz="2800" spc="-1" strike="noStrike" u="sng">
                <a:solidFill>
                  <a:srgbClr val="3f6a95"/>
                </a:solidFill>
                <a:uFillTx/>
                <a:latin typeface="Arial"/>
              </a:rPr>
              <a:t>outdoor </a:t>
            </a: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air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Any concentration that is greater is too high.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Although the comparison is not perfect, we will compare with these standards. 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45640" y="5992920"/>
            <a:ext cx="361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* 8-hour average    ** 24-hour a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21920" y="2144880"/>
            <a:ext cx="5023800" cy="825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bon monoxide (CO): 9 ppm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ulate matter (PM): 65 </a:t>
            </a:r>
            <a:r>
              <a:rPr b="0" lang="en-US" sz="2400" spc="-1" strike="noStrike">
                <a:solidFill>
                  <a:srgbClr val="ffffff"/>
                </a:solidFill>
                <a:latin typeface="SymbolPS"/>
                <a:ea typeface="SymbolPS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/m3 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rbon monoxide in hom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32763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If homes don’t have chimneys, concentrations can be too high. </a:t>
            </a:r>
            <a:endParaRPr b="0" lang="en-US" sz="24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Concentrations are generally acceptable for improved stoves with and without chimneys.</a:t>
            </a:r>
            <a:endParaRPr b="0" lang="en-US" sz="24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However, even the highest concentrations are lower than those on Tegucigalpa roadways!</a:t>
            </a:r>
            <a:endParaRPr b="0" lang="en-US" sz="2400" spc="-1" strike="noStrike">
              <a:solidFill>
                <a:srgbClr val="3f6a95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429000" y="1219320"/>
            <a:ext cx="5334120" cy="3879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962520" y="3733920"/>
            <a:ext cx="4647960" cy="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48120" y="371808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6600"/>
                </a:solidFill>
                <a:latin typeface="Arial"/>
              </a:rPr>
              <a:t>EPA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92200" y="5075280"/>
            <a:ext cx="346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Measurements made during coo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culate matter in hom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30477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6a95"/>
                </a:solidFill>
                <a:latin typeface="Arial"/>
              </a:rPr>
              <a:t>For stoves without chimneys, concentrations are many times higher than the standard!</a:t>
            </a:r>
            <a:endParaRPr b="0" lang="en-US" sz="20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6a95"/>
                </a:solidFill>
                <a:latin typeface="Arial"/>
              </a:rPr>
              <a:t>This is true even for improved stoves.</a:t>
            </a:r>
            <a:endParaRPr b="0" lang="en-US" sz="20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6a95"/>
                </a:solidFill>
                <a:latin typeface="Arial"/>
              </a:rPr>
              <a:t>Stoves with chimneys help maintain acceptable air quality.</a:t>
            </a:r>
            <a:endParaRPr b="0" lang="en-US" sz="20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6a95"/>
                </a:solidFill>
                <a:latin typeface="Arial"/>
              </a:rPr>
              <a:t>Particulate matter is a bigger problem than carbon monoxide. The concentrations are much higher than the standard.</a:t>
            </a:r>
            <a:endParaRPr b="0" lang="en-US" sz="2000" spc="-1" strike="noStrike">
              <a:solidFill>
                <a:srgbClr val="3f6a95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352680" y="1295280"/>
            <a:ext cx="5334120" cy="3880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962520" y="4514760"/>
            <a:ext cx="4647960" cy="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54160" y="363528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6600"/>
                </a:solidFill>
                <a:latin typeface="Arial"/>
              </a:rPr>
              <a:t>EPA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03560" y="4044960"/>
            <a:ext cx="0" cy="47772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92200" y="5075280"/>
            <a:ext cx="346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Measurements made during coo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Measuring emis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8067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The University of Illinois built a portable cart to make emission measurements.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Right now, the measurement has to be done by researchers.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We hope to make it </a:t>
            </a:r>
            <a:br>
              <a:rPr sz="2800"/>
            </a:b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easier so that everyone can do it.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0" y="1289160"/>
            <a:ext cx="4267080" cy="31986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372280" y="4440240"/>
            <a:ext cx="3008160" cy="60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9900"/>
                </a:solidFill>
                <a:latin typeface="Arial"/>
              </a:rPr>
              <a:t>Chris and Benjamin use the emission cart to measure the stove inside the kitc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issions of carbon monoxide (CO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32130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Improved stoves emit about as much CO per wood as traditional stoves.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If they use less wood, they will emit less CO for cooking a meal.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408480" y="1084320"/>
            <a:ext cx="5479920" cy="3986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200240" y="6135840"/>
            <a:ext cx="6742080" cy="31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Remember: Wood used x pollutant per wood = total e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2102400" y="3048120"/>
            <a:ext cx="289944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ms of CO per kilogram of w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issions of particulate matter (PM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33256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Stoves with chimneys reduce emissions of PM per kilogram of wood.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There could be an additional benefit if they use less wood.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This is beneficial for the environment.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660840" y="1160640"/>
            <a:ext cx="5297400" cy="3854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092200" y="5075280"/>
            <a:ext cx="381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Ecolenca tests were mostly new user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so emissions may not be representat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2311920" y="3046680"/>
            <a:ext cx="289944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ms of PM per kilogram of w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itial Finding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0769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In homes with traditional stoves: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f6a95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concentrations of carbon monoxide can be too high</a:t>
            </a:r>
            <a:endParaRPr b="0" lang="en-US" sz="2400" spc="-1" strike="noStrike">
              <a:solidFill>
                <a:srgbClr val="3f6a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f6a95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concentrations of particulate matter are almost always too high– sometimes by 10 times</a:t>
            </a:r>
            <a:endParaRPr b="0" lang="en-US" sz="24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Chimney stoves have lower emissions </a:t>
            </a:r>
            <a:r>
              <a:rPr b="0" i="1" lang="en-US" sz="2800" spc="-1" strike="noStrike">
                <a:solidFill>
                  <a:srgbClr val="3f6a95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 improve indoor air quality.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f6a95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The chimney promotes a stronger draft. </a:t>
            </a:r>
            <a:endParaRPr b="0" lang="en-US" sz="24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Stoves without chimneys may be successful with user training. 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University of Illinois also did measurements in 2006. These will be added after we examine the data.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AHDESA will do many more tests to measure 24-hour concentrations. These will also be added.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Carbon dioxide (CO</a:t>
            </a:r>
            <a:r>
              <a:rPr b="0" lang="en-US" sz="2800" spc="-1" strike="noStrike" baseline="-25000">
                <a:solidFill>
                  <a:srgbClr val="3f6a95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) is also an important pollutant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f6a95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Contributes to global warming, not dangerous to people</a:t>
            </a:r>
            <a:endParaRPr b="0" lang="en-US" sz="2400" spc="-1" strike="noStrike">
              <a:solidFill>
                <a:srgbClr val="3f6a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f6a95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Using less fuel is the easiest way to reduce emissions</a:t>
            </a:r>
            <a:endParaRPr b="0" lang="en-US" sz="2400" spc="-1" strike="noStrike">
              <a:solidFill>
                <a:srgbClr val="3f6a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Measurement Te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f6a95"/>
                </a:solidFill>
                <a:latin typeface="Arial"/>
              </a:rPr>
              <a:t>AHDESA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Benjamin Osorto Pinel, organizer, stove installer and monitoring expert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Augusto Ramirez, organizer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f6a95"/>
                </a:solidFill>
                <a:latin typeface="Arial"/>
              </a:rPr>
              <a:t>University of Illinois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Tami Bond and Christoph Roden, emission measurements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Questions: Tami – yark@uiuc.edu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846880" y="5653080"/>
            <a:ext cx="28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Thank you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rpose of the measur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AHDESA is distributing stoves that may use less wood and produce fewer emissions.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Our measurements examine whether improved stoves really are better. 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0" t="0" r="7324" b="0"/>
          <a:stretch/>
        </p:blipFill>
        <p:spPr>
          <a:xfrm>
            <a:off x="4773600" y="2989440"/>
            <a:ext cx="3789360" cy="3065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rcRect l="0" t="0" r="0" b="14649"/>
          <a:stretch/>
        </p:blipFill>
        <p:spPr>
          <a:xfrm>
            <a:off x="762120" y="3132000"/>
            <a:ext cx="3109680" cy="3538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734080" y="5869080"/>
            <a:ext cx="1941480" cy="43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9900"/>
                </a:solidFill>
                <a:latin typeface="Arial"/>
              </a:rPr>
              <a:t>Augusto is installing a new chimne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6442200"/>
            <a:ext cx="2646360" cy="26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9900"/>
                </a:solidFill>
                <a:latin typeface="Arial"/>
              </a:rPr>
              <a:t>This lady has a new Ecofog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ortant pollutant: Carbon monox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Carbon monoxide (CO)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Colorless, odorless gas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f6a95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You can’t see it or smell it</a:t>
            </a:r>
            <a:endParaRPr b="0" lang="en-US" sz="24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Causes dizziness and death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Concentration measured in parts per million (ppm)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f6a95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1 ppm is 1 molecule of CO in each </a:t>
            </a:r>
            <a:br>
              <a:rPr sz="2400"/>
            </a:b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million molecules of air</a:t>
            </a:r>
            <a:endParaRPr b="0" lang="en-US" sz="2400" spc="-1" strike="noStrike">
              <a:solidFill>
                <a:srgbClr val="3f6a95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997680" y="4575240"/>
            <a:ext cx="1017720" cy="1906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572000" y="4343400"/>
            <a:ext cx="2381400" cy="971640"/>
          </a:xfrm>
          <a:prstGeom prst="wedgeEllipseCallout">
            <a:avLst>
              <a:gd name="adj1" fmla="val 59731"/>
              <a:gd name="adj2" fmla="val 334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here is the C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ortant pollutant: Particulate matt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Particulate matter (PM) makes</a:t>
            </a:r>
            <a:br>
              <a:rPr sz="2800"/>
            </a:b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visible smoke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The particles are very small!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f6a95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Diameters about 0.1 </a:t>
            </a:r>
            <a:r>
              <a:rPr b="0" lang="en-US" sz="2400" spc="-1" strike="noStrike">
                <a:solidFill>
                  <a:srgbClr val="3f6a95"/>
                </a:solidFill>
                <a:latin typeface="SymbolPS"/>
                <a:ea typeface="SymbolPS"/>
              </a:rPr>
              <a:t></a:t>
            </a: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m (100 times </a:t>
            </a:r>
            <a:br>
              <a:rPr sz="2400"/>
            </a:b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smaller than diameter of a human hair)</a:t>
            </a:r>
            <a:endParaRPr b="0" lang="en-US" sz="2400" spc="-1" strike="noStrike">
              <a:solidFill>
                <a:srgbClr val="3f6a9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f6a95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These particles cause illness </a:t>
            </a:r>
            <a:br>
              <a:rPr sz="2400"/>
            </a:b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because they get deep into the lungs </a:t>
            </a:r>
            <a:endParaRPr b="0" lang="en-US" sz="24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Concentration is measured </a:t>
            </a:r>
            <a:br>
              <a:rPr sz="2800"/>
            </a:b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in </a:t>
            </a:r>
            <a:r>
              <a:rPr b="0" lang="en-US" sz="2800" spc="-1" strike="noStrike">
                <a:solidFill>
                  <a:srgbClr val="3f6a95"/>
                </a:solidFill>
                <a:latin typeface="SymbolPS"/>
                <a:ea typeface="SymbolPS"/>
              </a:rPr>
              <a:t></a:t>
            </a: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g/m</a:t>
            </a:r>
            <a:r>
              <a:rPr b="0" lang="en-US" sz="2800" spc="-1" strike="noStrike" baseline="30000">
                <a:solidFill>
                  <a:srgbClr val="3f6a95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f6a95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3f6a95"/>
                </a:solidFill>
                <a:latin typeface="SymbolPS"/>
                <a:ea typeface="SymbolPS"/>
              </a:rPr>
              <a:t></a:t>
            </a: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g/m</a:t>
            </a:r>
            <a:r>
              <a:rPr b="0" lang="en-US" sz="2400" spc="-1" strike="noStrike" baseline="30000">
                <a:solidFill>
                  <a:srgbClr val="3f6a95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 is one microgram </a:t>
            </a:r>
            <a:br>
              <a:rPr sz="2400"/>
            </a:b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of particles in each </a:t>
            </a:r>
            <a:br>
              <a:rPr sz="2400"/>
            </a:b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cubic meter of air</a:t>
            </a:r>
            <a:endParaRPr b="0" lang="en-US" sz="2400" spc="-1" strike="noStrike">
              <a:solidFill>
                <a:srgbClr val="3f6a95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013" t="16823" r="0" b="16823"/>
          <a:stretch/>
        </p:blipFill>
        <p:spPr>
          <a:xfrm>
            <a:off x="7140600" y="1150920"/>
            <a:ext cx="1371600" cy="1803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800760" y="2744640"/>
            <a:ext cx="1941480" cy="77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9900"/>
                </a:solidFill>
                <a:latin typeface="Arial"/>
              </a:rPr>
              <a:t>Black particles look like this if you use a very strong microscop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587920" y="4060800"/>
            <a:ext cx="3305160" cy="24796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543640" y="6459480"/>
            <a:ext cx="3313080" cy="26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9900"/>
                </a:solidFill>
                <a:latin typeface="Arial"/>
              </a:rPr>
              <a:t>If you can see it, it’s particulate matt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centr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miss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re differe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4200" y="3616200"/>
            <a:ext cx="3324240" cy="2522160"/>
            <a:chOff x="214200" y="3616200"/>
            <a:chExt cx="3324240" cy="2522160"/>
          </a:xfrm>
        </p:grpSpPr>
        <p:sp>
          <p:nvSpPr>
            <p:cNvPr id="106" name=""/>
            <p:cNvSpPr/>
            <p:nvPr/>
          </p:nvSpPr>
          <p:spPr>
            <a:xfrm>
              <a:off x="518400" y="4354200"/>
              <a:ext cx="2717640" cy="1784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214200" y="3616200"/>
              <a:ext cx="1570320" cy="86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1786320" y="3616200"/>
              <a:ext cx="163044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9" name=""/>
            <p:cNvGraphicFramePr/>
            <p:nvPr/>
          </p:nvGraphicFramePr>
          <p:xfrm>
            <a:off x="1605600" y="5092560"/>
            <a:ext cx="368280" cy="984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3">
                      <a:alphaModFix amt="50000"/>
                    </a:blip>
                    <a:stretch/>
                  </p:blipFill>
                  <p:spPr>
                    <a:xfrm>
                      <a:off x="1605600" y="5092560"/>
                      <a:ext cx="368280" cy="98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1" name=""/>
            <p:cNvSpPr/>
            <p:nvPr/>
          </p:nvSpPr>
          <p:spPr>
            <a:xfrm>
              <a:off x="2692800" y="4590360"/>
              <a:ext cx="845640" cy="440640"/>
            </a:xfrm>
            <a:custGeom>
              <a:avLst/>
              <a:gdLst/>
              <a:ahLst/>
              <a:rect l="l" t="t" r="r" b="b"/>
              <a:pathLst>
                <a:path w="672" h="344">
                  <a:moveTo>
                    <a:pt x="0" y="296"/>
                  </a:moveTo>
                  <a:cubicBezTo>
                    <a:pt x="44" y="200"/>
                    <a:pt x="88" y="104"/>
                    <a:pt x="144" y="56"/>
                  </a:cubicBezTo>
                  <a:cubicBezTo>
                    <a:pt x="200" y="8"/>
                    <a:pt x="264" y="8"/>
                    <a:pt x="336" y="8"/>
                  </a:cubicBezTo>
                  <a:cubicBezTo>
                    <a:pt x="408" y="8"/>
                    <a:pt x="520" y="0"/>
                    <a:pt x="576" y="56"/>
                  </a:cubicBezTo>
                  <a:cubicBezTo>
                    <a:pt x="632" y="112"/>
                    <a:pt x="652" y="228"/>
                    <a:pt x="672" y="3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7240" y="1419120"/>
            <a:ext cx="2836800" cy="1555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Wood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ollutant per w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total 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79920" y="4197240"/>
            <a:ext cx="3257280" cy="1555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entration in the room depend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- Total 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room s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ollutant rem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82720" y="1135080"/>
            <a:ext cx="2837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4 kg w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5 g PM/kg w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20 g PM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240600" y="793800"/>
            <a:ext cx="179208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 are many ways to reduce air concentratio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0840" y="1563840"/>
            <a:ext cx="2836800" cy="1555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Wood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ollutant per w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total 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6920" y="3741840"/>
            <a:ext cx="3257640" cy="1555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entration in the room depend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- Total 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room s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ollutant rem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643120" y="1741320"/>
            <a:ext cx="1928880" cy="130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1640" y="1143000"/>
            <a:ext cx="42670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3f6a95"/>
                </a:solidFill>
                <a:uFillTx/>
                <a:latin typeface="Arial"/>
              </a:rPr>
              <a:t>Solutions:</a:t>
            </a:r>
            <a:endParaRPr b="0" lang="en-US" sz="22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6a95"/>
                </a:solidFill>
                <a:latin typeface="Arial"/>
              </a:rPr>
              <a:t>Use less wood </a:t>
            </a:r>
            <a:endParaRPr b="0" lang="en-US" sz="2200" spc="-1" strike="noStrike">
              <a:solidFill>
                <a:srgbClr val="3f6a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f6a95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6a95"/>
                </a:solidFill>
                <a:latin typeface="Arial"/>
              </a:rPr>
              <a:t>Better efficiency by improving stove design</a:t>
            </a:r>
            <a:endParaRPr b="0" lang="en-US" sz="20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6a95"/>
                </a:solidFill>
                <a:latin typeface="Arial"/>
              </a:rPr>
              <a:t>Reduce emissions (less pollution from each kilogram of wood)</a:t>
            </a:r>
            <a:endParaRPr b="0" lang="en-US" sz="2200" spc="-1" strike="noStrike">
              <a:solidFill>
                <a:srgbClr val="3f6a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f6a95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6a95"/>
                </a:solidFill>
                <a:latin typeface="Arial"/>
              </a:rPr>
              <a:t>Improve burning with better stove design</a:t>
            </a:r>
            <a:endParaRPr b="0" lang="en-US" sz="2000" spc="-1" strike="noStrike">
              <a:solidFill>
                <a:srgbClr val="3f6a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f6a95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6a95"/>
                </a:solidFill>
                <a:latin typeface="Arial"/>
              </a:rPr>
              <a:t>Use fuel that burns better</a:t>
            </a:r>
            <a:endParaRPr b="0" lang="en-US" sz="20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6a95"/>
                </a:solidFill>
                <a:latin typeface="Arial"/>
              </a:rPr>
              <a:t>Remove pollutants from room</a:t>
            </a:r>
            <a:endParaRPr b="0" lang="en-US" sz="2200" spc="-1" strike="noStrike">
              <a:solidFill>
                <a:srgbClr val="3f6a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f6a95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6a95"/>
                </a:solidFill>
                <a:latin typeface="Arial"/>
              </a:rPr>
              <a:t>Use a chimney</a:t>
            </a:r>
            <a:endParaRPr b="0" lang="en-US" sz="2000" spc="-1" strike="noStrike">
              <a:solidFill>
                <a:srgbClr val="3f6a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f6a95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6a95"/>
                </a:solidFill>
                <a:latin typeface="Arial"/>
              </a:rPr>
              <a:t>Increase ventilation</a:t>
            </a:r>
            <a:endParaRPr b="0" lang="en-US" sz="2000" spc="-1" strike="noStrike">
              <a:solidFill>
                <a:srgbClr val="3f6a95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21200" y="2459160"/>
            <a:ext cx="1450800" cy="317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102120" y="4950000"/>
            <a:ext cx="1469880" cy="280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6400" y="2468520"/>
            <a:ext cx="2584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30240" y="1881360"/>
            <a:ext cx="1757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1560" y="5218200"/>
            <a:ext cx="2497320" cy="1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th concentration and emission are importan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The amount of </a:t>
            </a:r>
            <a:r>
              <a:rPr b="0" i="1" lang="en-US" sz="2800" spc="-1" strike="noStrike">
                <a:solidFill>
                  <a:srgbClr val="3f6a95"/>
                </a:solidFill>
                <a:latin typeface="Arial"/>
              </a:rPr>
              <a:t>concentration </a:t>
            </a: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affects people’s health. 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f6a95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A stove with high emissions may not cause health problems if people do not breathe the smoke.</a:t>
            </a:r>
            <a:endParaRPr b="0" lang="en-US" sz="2400" spc="-1" strike="noStrike">
              <a:solidFill>
                <a:srgbClr val="3f6a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The amount of </a:t>
            </a:r>
            <a:r>
              <a:rPr b="0" i="1" lang="en-US" sz="2800" spc="-1" strike="noStrike">
                <a:solidFill>
                  <a:srgbClr val="3f6a95"/>
                </a:solidFill>
                <a:latin typeface="Arial"/>
              </a:rPr>
              <a:t>emission</a:t>
            </a: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 affects the environment.</a:t>
            </a:r>
            <a:endParaRPr b="0" lang="en-US" sz="2800" spc="-1" strike="noStrike">
              <a:solidFill>
                <a:srgbClr val="3f6a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f6a95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When a neighborhood</a:t>
            </a:r>
            <a:br>
              <a:rPr sz="2400"/>
            </a:b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has many stoves, high </a:t>
            </a:r>
            <a:br>
              <a:rPr sz="2400"/>
            </a:b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emissions result in </a:t>
            </a:r>
            <a:br>
              <a:rPr sz="2400"/>
            </a:b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poor air quality</a:t>
            </a:r>
            <a:endParaRPr b="0" lang="en-US" sz="2400" spc="-1" strike="noStrike">
              <a:solidFill>
                <a:srgbClr val="3f6a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f6a95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Stove emissions stay in </a:t>
            </a:r>
            <a:br>
              <a:rPr sz="2400"/>
            </a:b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the atmosphere and </a:t>
            </a:r>
            <a:br>
              <a:rPr sz="2400"/>
            </a:br>
            <a:r>
              <a:rPr b="0" lang="en-US" sz="2400" spc="-1" strike="noStrike">
                <a:solidFill>
                  <a:srgbClr val="3f6a95"/>
                </a:solidFill>
                <a:latin typeface="Arial"/>
              </a:rPr>
              <a:t>change its chemistry. </a:t>
            </a:r>
            <a:endParaRPr b="0" lang="en-US" sz="2400" spc="-1" strike="noStrike">
              <a:solidFill>
                <a:srgbClr val="3f6a95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0" t="9765" r="0" b="0"/>
          <a:stretch/>
        </p:blipFill>
        <p:spPr>
          <a:xfrm>
            <a:off x="4572000" y="3438360"/>
            <a:ext cx="4105440" cy="2778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876920" y="6078600"/>
            <a:ext cx="3674880" cy="60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9900"/>
                </a:solidFill>
                <a:latin typeface="Arial"/>
              </a:rPr>
              <a:t>Homes are very close together in Nueva Suyapa. Stoves need to have low emissions even if they have chimney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rcRect l="14649" t="19531" r="14649" b="0"/>
          <a:stretch/>
        </p:blipFill>
        <p:spPr>
          <a:xfrm>
            <a:off x="662040" y="3998880"/>
            <a:ext cx="2641680" cy="22557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measured 4 kinds of stov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178160" y="1066680"/>
            <a:ext cx="3324240" cy="2494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800760" y="1106640"/>
            <a:ext cx="1560600" cy="53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Justa </a:t>
            </a:r>
            <a:br>
              <a:rPr sz="1800"/>
            </a:b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(chimn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52280" y="900000"/>
            <a:ext cx="3400560" cy="2551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41200" y="3316320"/>
            <a:ext cx="3103560" cy="31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Traditional (no chimn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6039000"/>
            <a:ext cx="4227480" cy="53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We also measured the Ecobarril, a chimney stove that was discontinu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160" y="6116760"/>
            <a:ext cx="3867120" cy="31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EcoRocket/Ecolenca (no chimn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rcRect l="7324" t="0" r="14649" b="0"/>
          <a:stretch/>
        </p:blipFill>
        <p:spPr>
          <a:xfrm>
            <a:off x="4780080" y="3624120"/>
            <a:ext cx="2206440" cy="21225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286680" y="3792600"/>
            <a:ext cx="1522080" cy="75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Ecofogon/</a:t>
            </a:r>
            <a:br>
              <a:rPr sz="1800"/>
            </a:b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Ecohorno </a:t>
            </a:r>
            <a:br>
              <a:rPr sz="1800"/>
            </a:b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(chimn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Measuring concentr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14649" b="19531"/>
          <a:stretch/>
        </p:blipFill>
        <p:spPr>
          <a:xfrm>
            <a:off x="4572000" y="1504800"/>
            <a:ext cx="4268880" cy="3017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971960" y="4402080"/>
            <a:ext cx="3008520" cy="43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9900"/>
                </a:solidFill>
                <a:latin typeface="Arial"/>
              </a:rPr>
              <a:t>The concentration monitoring package is installed in a kitc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5067360"/>
            <a:ext cx="853416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Indoor air concentrations are measured with equipment that can be left in the home over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6a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a95"/>
                </a:solidFill>
                <a:latin typeface="Arial"/>
              </a:rPr>
              <a:t>This can be done by AHDESA personn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rcRect l="7324" t="19531" r="54932" b="39066"/>
          <a:stretch/>
        </p:blipFill>
        <p:spPr>
          <a:xfrm>
            <a:off x="520560" y="1604880"/>
            <a:ext cx="3575160" cy="2941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876400" y="3906720"/>
            <a:ext cx="104616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9900"/>
                </a:solidFill>
                <a:latin typeface="Arial"/>
              </a:rPr>
              <a:t>Filter (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9900"/>
                </a:solidFill>
                <a:latin typeface="Arial"/>
              </a:rPr>
              <a:t>partic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71600" y="1677960"/>
            <a:ext cx="760320" cy="28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9900"/>
                </a:solidFill>
                <a:latin typeface="Arial"/>
              </a:rPr>
              <a:t>Pu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43160" y="2820960"/>
            <a:ext cx="104616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9900"/>
                </a:solidFill>
                <a:latin typeface="Arial"/>
              </a:rPr>
              <a:t>HOBO (for 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15:07:09Z</dcterms:created>
  <dc:creator> </dc:creator>
  <dc:description/>
  <dc:language>en-US</dc:language>
  <cp:lastModifiedBy>Ivan Osorto</cp:lastModifiedBy>
  <dcterms:modified xsi:type="dcterms:W3CDTF">2007-12-12T21:17:33Z</dcterms:modified>
  <cp:revision>292</cp:revision>
  <dc:subject/>
  <dc:title>Slide 1</dc:title>
</cp:coreProperties>
</file>